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30E-2825-4E03-9EB8-558B875B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8E3-9F13-41FF-8994-2827314A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4E9-380C-47B8-A9FF-C09C47DE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1B1-96FC-4C5E-A457-7FAFF2D5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E25-4B38-41CA-8445-D0B9319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C48-28D5-4FC5-B190-0412B0E6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443-AB5D-44D3-9973-275D837F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660-FF2F-4AAF-B26A-FF018C19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408-B726-47C2-9B8F-15046791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619-0D78-4AEA-BFE5-D8432C6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0F9-BD7D-49C1-B7FD-F9A5E11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54C-EA96-4319-9973-0B6A8D6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AE1E-C26E-48E8-AA7B-D98A39E6D422}" type="slidenum">
              <a:rPr b="0" lang="en-US" sz="1400" spc="-1" strike="noStrike">
                <a:solidFill>
                  <a:srgbClr val="333333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Chapter 1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 Unicode MS"/>
              </a:rPr>
              <a:t>Measurement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ignificant Figures in Calculations</a:t>
            </a:r>
            <a:endParaRPr b="0" lang="en-US" sz="4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066680"/>
            <a:ext cx="41911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02A-DB53-46C2-8CD2-BFDB53F994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In which set(s) do both numbers contain the </a:t>
            </a:r>
            <a:r>
              <a:rPr b="1" i="1" lang="en-US" sz="3000" spc="-1" strike="noStrike">
                <a:solidFill>
                  <a:srgbClr val="ff0000"/>
                </a:solidFill>
                <a:latin typeface="Arial Unicode MS"/>
              </a:rPr>
              <a:t>same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?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0.000015 and 150,000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4" marL="2057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050-14FB-41DC-9B73-EE50568E71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State the number of significant figures in each of the following: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A.   0.030 m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B.  4.050 L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4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C.  0.0008 g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4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D.  3.00 m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E.  2,080,000 bees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5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7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 SF3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6DA-8048-4FD8-BCBB-7DB1789542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A.   0.030 m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B.  4.050 L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C.  0.00008 g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1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D.  3.00 m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E.  2,080,000 bees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3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E60-076C-4D6A-B649-E8FDD40DCC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29528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Significant Numbers in Calculation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 calculated answer cannot be more precise than the measuring tool.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 calculated answer must match the least precise measurement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Significant figures are needed for final answers from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1)  adding or subtracting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)  multiplying or dividing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572-80E8-4F8F-A3DB-9267EADC44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Adding and Subtracting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Arial Unicode MS"/>
              </a:rPr>
              <a:t>The answer has the same number of decimal places as the measurement with the fewest decimal places.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5.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   </a:t>
            </a:r>
            <a:r>
              <a:rPr b="1" i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 Unicode MS"/>
              </a:rPr>
              <a:t>one decimal place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+   1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 Unicode MS"/>
              </a:rPr>
              <a:t>.34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i="1" lang="en-US" sz="2800" spc="-1" strike="noStrike">
                <a:solidFill>
                  <a:srgbClr val="ff0000"/>
                </a:solidFill>
                <a:latin typeface="Arial Unicode MS"/>
              </a:rPr>
              <a:t>two decimal places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6.54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nswer 26.5  </a:t>
            </a:r>
            <a:r>
              <a:rPr b="1" i="1" lang="en-US" sz="2800" spc="-1" strike="noStrike">
                <a:solidFill>
                  <a:srgbClr val="ff0000"/>
                </a:solidFill>
                <a:latin typeface="Arial Unicode MS"/>
              </a:rPr>
              <a:t>one decimal place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F24-D162-4D7C-BC82-CA2DBD1AE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In each calculation, round the answer to the correct number of significant figures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235.05   +   19.6  + 2.1 =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256.75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256.8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257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   58.925   -  18.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40.725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40.7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40.7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D51-D92C-485F-B0D2-25264D0F1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235.05   +   19.6  + 2.1 =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256.8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   58.925   -  18.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40.7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02E-93C7-4CB6-9157-48183C6052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Multiplying and Dividing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Round (or add zeros) to the calculated answer until you have the same number of significant figures as the measurement with the fewest significant figures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0DA-7900-40AC-BFC1-F880E6FEF8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 2.19  X  4.2 =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9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9.2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 9.198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</a:t>
            </a:r>
            <a:r>
              <a:rPr b="1" lang="en-US" sz="2800" spc="-1" strike="noStrike">
                <a:solidFill>
                  <a:srgbClr val="333333"/>
                </a:solidFill>
                <a:latin typeface="Arial Unicode MS"/>
              </a:rPr>
              <a:t>. 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4.311  ÷  0.07   =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61.58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62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 60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 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2.54  X  0.0028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105 X 0.060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11.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1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3)  0.041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1A4-6E1C-4275-B272-040C94C1D4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.19  X  4.2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9.2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4.311  </a:t>
            </a:r>
            <a:r>
              <a:rPr b="1" lang="en-US" sz="3400" spc="-1" strike="noStrike">
                <a:solidFill>
                  <a:srgbClr val="333333"/>
                </a:solidFill>
                <a:latin typeface="Arial Unicode MS"/>
              </a:rPr>
              <a:t>÷  0.07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 60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	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2.54  X  0.0028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11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105 X 0.060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Continuous calculator operation =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.54   x  0.0028   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0.0105  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0.060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578-FD6A-484B-AF3E-4DAB561C2F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Significant Figures in Measurement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The numbers reported in a measurement are limited by the measuring tool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Significant figures in a measurement include the known digits plus one estimated digit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128-F205-43D5-8F59-EB85B1A0A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Counting Significant Figures</a:t>
            </a:r>
            <a:br>
              <a:rPr sz="3600"/>
            </a:b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4" marL="1892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38.15 c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5.6 ft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65.6 lb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122.55 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All non-zero digits in a measured number are (significant or not significant)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E15-80CC-4E99-86FE-058E1CCC74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ding Zero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8 m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156 oz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42 lb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0262 mL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Leading zeros in decimal numbers are (significant or not significant)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0BF-C7C0-4233-B8A3-E702A9F60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andwiched Zero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50.8 m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001 min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702 lb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405 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Zeros between nonzero numbers are (significant or not significant)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C51-9158-49A8-A430-6FA373525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Trailing Zero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0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5,000 in.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00 yr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48,600 gal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5,005,000 g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Trailing zeros in numbers without decimals are (significant or not significant)  if they are serving as place holders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7E4-6559-48DC-A099-AF9642C06E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Which answers contain 3 significant  figures?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65376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 0.4760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 0.00476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3)  4760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     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All the zeros are significant in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 0.00307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 25.300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3)  2.050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 534,675 rounded to 3 significant  figures i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65376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535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2)  535,000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3) 5.35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DC7-F542-408A-B3BA-8E62071438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Which answers contain 3 significant  figures?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2072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0.00476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4760 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All the zeros are significant in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25.300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2.050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 534,675 rounded to 3 significant  figures i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2072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535,000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5.35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95E-E535-486E-8212-B1631E9D0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In which set(s) do both numbers contain the </a:t>
            </a:r>
            <a:r>
              <a:rPr b="1" i="1" lang="en-US" sz="3000" spc="-1" strike="noStrike">
                <a:solidFill>
                  <a:srgbClr val="ff0000"/>
                </a:solidFill>
                <a:latin typeface="Arial Unicode MS"/>
              </a:rPr>
              <a:t>same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?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22.0  and 22.00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400.0 and 40  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0.000015 and 150,000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4" marL="2057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9E0-B580-4C48-880F-B0161B7E7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6T17:31:22Z</dcterms:created>
  <dc:creator>Karen Timberlake</dc:creator>
  <dc:description/>
  <dc:language>en-US</dc:language>
  <cp:lastModifiedBy>Timberlake</cp:lastModifiedBy>
  <cp:lastPrinted>1999-05-16T18:06:19Z</cp:lastPrinted>
  <dcterms:modified xsi:type="dcterms:W3CDTF">2002-10-03T14:08:22Z</dcterms:modified>
  <cp:revision>9</cp:revision>
  <dc:subject/>
  <dc:title>Chapter 1 Measur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